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408-9099-4BF7-B10A-8B89B511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9F0-B3BC-4E8B-8C44-852B70AC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F6B-139F-40DD-9329-7C6187B6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F33-C073-4522-A717-3E66BD15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1401-310F-4665-ADCD-99618593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93C6-AB7C-4032-9F6E-C5E5B305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22F4-ABC2-4948-9C35-9D23982C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5971-2F7B-4145-8AC0-763102B1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9E93-49F0-4B44-B4A1-609E90B2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9254-DE1A-4104-ACF7-8950EBC3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DC72-D900-407C-84C2-A3857F1A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5D2-D6EB-467F-8F7F-39804AE4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B557-4A2D-4C71-AB0F-FED45891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4E0C-C766-4395-914F-65DDA3E5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C421-EEF6-45D7-855E-3B250C00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B910-C8FC-46C7-9558-13884924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4FCE-5B15-4B76-8BD4-C24F5E52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6B1-E632-4582-87FD-FB3E7F1B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1C7-47E9-460B-8B0D-2B472719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A50-8A07-406C-B5B4-A8A9DD4C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95C-765C-438C-9FCE-67F8D56F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741-8D5A-437D-B87E-ABCB7B58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CD4-19E4-4064-A3E3-BA65AC17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32B-9A8C-44CF-BCB0-F8CFA815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EBA1-3EFF-4A3E-B859-3EB70BB027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83FB-EEDA-4A16-A920-0ACB1AA093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257800" y="2895480"/>
            <a:ext cx="2666880" cy="1524240"/>
          </a:xfrm>
          <a:prstGeom prst="cloudCallout">
            <a:avLst>
              <a:gd name="adj1" fmla="val -70120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télévisions e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ux télévisions: FRANCE2 et TF1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utes les actualités nationale  et internationales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461960"/>
          <a:ext cx="80773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’est util.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us chaîne de télévisions et plus choses intéressantes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user</cp:lastModifiedBy>
  <dcterms:modified xsi:type="dcterms:W3CDTF">2011-10-18T17:36:05Z</dcterms:modified>
  <cp:revision>30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